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wind.wav" ContentType="audio/x-wav"/>
  <Override PartName="/ppt/media/drumroll.wav" ContentType="audio/x-wav"/>
  <Override PartName="/ppt/media/image6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11F1-A041-43D0-9C15-8827AE304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A7BA-AEA3-4BA7-B015-3A2620F99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3E90-A38B-4693-AD6E-FD0286FE3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A25D-A496-4EB3-89FA-818A5F3B5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2740-5BB2-401E-8A2E-BD63DC933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47B2-AD58-4937-AC99-9427325F5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958B-7128-4397-99BC-A639C0634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9AA1-0B1A-4D22-827F-3D054BEEF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B46A-F135-4B86-B32A-C19AD3076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BCEF-CB8D-4C61-9B83-33F7C50AD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3C87-14C1-4455-BA27-34926FE28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D2D9-4761-46AA-A2A2-2483FB63F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4656-350A-4593-B1EA-D5FE4697EE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C403-DDE7-40FF-B665-8AE1C433DE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THE IMPORTAN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FOR CONCEP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219320"/>
            <a:ext cx="8686800" cy="259056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Complete an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to journal about importance &amp; significance of Multiple Representations and also student conjectures or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C73B-21FD-45C5-953F-15BFD7B3BA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92232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914400" y="41911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ndana  - record a new strategy or idea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ed about this brea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ARE THESE MODE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1BB-8584-4E61-9204-8C8BE9CCC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l_fi" descr="http://www.thechinesesymbol.com/medias/symbols/24609.png"/>
          <p:cNvPicPr/>
          <p:nvPr/>
        </p:nvPicPr>
        <p:blipFill>
          <a:blip r:embed="rId1"/>
          <a:stretch/>
        </p:blipFill>
        <p:spPr>
          <a:xfrm>
            <a:off x="1523880" y="2666880"/>
            <a:ext cx="1676520" cy="175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Documents and Settings\Nancy Snyder\Local Settings\Temporary Internet Files\Content.IE5\O09A9ZYS\MC900423171[1].wmf"/>
          <p:cNvPicPr/>
          <p:nvPr/>
        </p:nvPicPr>
        <p:blipFill>
          <a:blip r:embed="rId2"/>
          <a:stretch/>
        </p:blipFill>
        <p:spPr>
          <a:xfrm>
            <a:off x="5181480" y="2514600"/>
            <a:ext cx="1827360" cy="182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80880" y="1676520"/>
            <a:ext cx="85345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Small Group </a:t>
            </a:r>
            <a:r>
              <a:rPr b="1" lang="en-CA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 Creation and sh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Each group (each table) has 5 min to develop models (at least 4) for a specific con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C:\Documents and Settings\Nancy Snyder\Local Settings\Temporary Internet Files\Content.IE5\INMMNCMQ\MC900187587[1].wmf"/>
          <p:cNvPicPr/>
          <p:nvPr/>
        </p:nvPicPr>
        <p:blipFill>
          <a:blip r:embed="rId3"/>
          <a:stretch/>
        </p:blipFill>
        <p:spPr>
          <a:xfrm>
            <a:off x="4648320" y="76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explore the connection between multiple representations for linear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identify areas in our curriculum where connections between multiple representations is important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6551-C2BF-45B5-84E9-DE43AA09A5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32FA-1F83-4007-879B-8B1480FF9F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drumroll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Action:  TPQ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837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Think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about which question you would like to work on (6.1 or 6.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Pair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up - pick a partner and solve the problem using two different methods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en-CA" sz="2600" spc="-1" strike="noStrike">
                <a:solidFill>
                  <a:srgbClr val="002060"/>
                </a:solidFill>
                <a:latin typeface="Arial"/>
              </a:rPr>
              <a:t>instructions with BL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Quad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join another pair who solved the same problem but used differen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Share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&amp; comp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060"/>
                </a:solidFill>
                <a:latin typeface="Arial"/>
              </a:rPr>
              <a:t>Questions to Cons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EA4-BE7D-4769-A0C9-9DCE7F01EA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C:\Documents and Settings\Nancy Snyder\Local Settings\Temporary Internet Files\Content.IE5\4E0NEPZG\MC900104872[1].wmf"/>
          <p:cNvPicPr/>
          <p:nvPr/>
        </p:nvPicPr>
        <p:blipFill>
          <a:blip r:embed="rId1"/>
          <a:stretch/>
        </p:blipFill>
        <p:spPr>
          <a:xfrm>
            <a:off x="457200" y="61920"/>
            <a:ext cx="1227240" cy="9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4AA-7FF7-4B1F-863B-CE47810D09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3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Share &amp; Compare 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FB61-2547-4265-A9E9-F169B79F5D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0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80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471600"/>
            <a:ext cx="838188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Whole Group</a:t>
            </a:r>
            <a:r>
              <a:rPr b="0" lang="en-C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Discussion &amp;</a:t>
            </a:r>
            <a:r>
              <a:rPr b="1" lang="en-C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Sharing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see opportunities within the solution of these problems to address ideas from the Plena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ght it be a worthwhile Learning Goal to focus on student conjectures or predictions about solutions to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4A78-E972-4010-BD7A-C2ADCEE26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Nancy Snyder\Local Settings\Temporary Internet Files\Content.IE5\4E0NEPZG\MC900304299[1].wmf"/>
          <p:cNvPicPr/>
          <p:nvPr/>
        </p:nvPicPr>
        <p:blipFill>
          <a:blip r:embed="rId1"/>
          <a:stretch/>
        </p:blipFill>
        <p:spPr>
          <a:xfrm>
            <a:off x="5257800" y="762120"/>
            <a:ext cx="1811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Original Picto-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e and Melissa went to the local carnival on the weekend.  While they were there, they each purchased a hamburger and a soda pop, which totalled $22.  Later, they met Sue’s brother Mike while he was buying a hamburger and pop for himself, so he decided to also buy Sue and Melissa a pop.  His bill was $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rmine the cost of one hamburger and one p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C509-9668-4D53-AE74-837E12934A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52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mall Group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Same G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70c0"/>
                </a:solidFill>
                <a:uFillTx/>
                <a:latin typeface="Arial Rounded MT Bold"/>
              </a:rPr>
              <a:t>Identify and 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areas in the curriculum where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between multiple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is an important learning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0DD-955B-49E4-8C87-BFC8CB1CF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08T00:48:43Z</dcterms:modified>
  <cp:revision>177</cp:revision>
  <dc:subject/>
  <dc:title>&lt;Title&gt;</dc:title>
</cp:coreProperties>
</file>